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F82C-4FEE-4A6F-A9CA-56ADA456F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1FD7-7433-4E51-A981-F2622C48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C435-B69E-41B1-9ADE-89AE68741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C60-44EE-4E7C-B436-70B38332A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DA07-D9F4-4AFC-887E-FD87C5E7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40B8-80A0-48E4-8F21-102AB19F3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D958-B1D1-4D10-AD9C-A16B3DA3C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465-EA8F-4768-8595-664759EE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8A9-91DE-4C88-AB05-D9643911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FAA-01B8-462E-8FEF-90D18A4E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402-BB68-4E13-A8FC-6FDAD063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BAB-9879-4C3D-9D0A-A596EECD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440-371E-4016-A20B-150A120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2A6-9CAF-46F5-861D-9C3C44DF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075-50B5-407F-B29A-16C9183B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2CC-72F5-4BF8-8024-C0EE9DC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A20-A0DB-473F-83F6-BA19AD64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EE8-0C18-4D84-A930-4BAF496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317-CD82-4B91-92D9-90028C0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4530-99D5-49C8-BFEF-469BF4661F7A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Solving Multiplication and Division Equations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olving for variabl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Procedur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Isolate the variable by performing the inverse operation on the number that is attached to the variable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The inverse of multiplication is division.  The inverse of division is multiplication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042b"/>
                </a:solidFill>
                <a:latin typeface="Trebuchet MS"/>
              </a:rPr>
              <a:t>Use the “Golden Rule.”  Perform the same operation on the other side of the equal sign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Exampl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1981080"/>
            <a:ext cx="2209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rse of division is multi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09880" y="2286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28600" y="358128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he operation on the othe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410080" y="227016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x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429000" y="3581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276720" y="3809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4800600" y="3809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6386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heck. Use the original equation.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8120" y="173664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895480" y="265104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÷ 3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114800" y="34290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=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Example 2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b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447920"/>
            <a:ext cx="228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rse of multiplying is div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743200" y="23623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÷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48320" y="2270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÷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819520" y="3581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505320" y="342900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9144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914400" y="3352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914400" y="3200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380880" y="326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295280" y="2514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1295280" y="3794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990720" y="4343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838080" y="4648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295280" y="440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9810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676520" y="440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1676520" y="2514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1295280" y="493704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9144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83808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1600200" y="5699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876920" y="3429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heck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971800" y="1600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b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33720" y="23464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(15)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666880" y="31240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5 = 1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1:31:09Z</dcterms:created>
  <dc:creator>Josh Hammond</dc:creator>
  <dc:description/>
  <dc:language>en-US</dc:language>
  <cp:lastModifiedBy>Home</cp:lastModifiedBy>
  <dcterms:modified xsi:type="dcterms:W3CDTF">2010-11-14T16:58:33Z</dcterms:modified>
  <cp:revision>10</cp:revision>
  <dc:subject/>
  <dc:title>Solving Multiplication and Division Equations</dc:title>
</cp:coreProperties>
</file>